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5F1-F952-4E9C-8306-53543364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465-051D-451D-B1C3-073C02E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0DD-61A4-403C-AD79-2296E9A9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C1B-188A-4F2A-AA07-2AB49E7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10E-FE28-4829-BACE-9FE127A5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C95-B1BE-41DE-B749-3A4C607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D6C-369B-4B38-AE29-4D3138C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159-24C6-4F45-953F-4117BA1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43B-4664-4511-A643-4EEAA32C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671-9EE6-48ED-8B90-5332674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3A1-D82A-4ED1-909A-F4F477E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3D6-683C-4860-86EA-30B0A58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754-8478-4A02-956B-510AEA3D1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Parallel Box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arallel Boxplo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arallel boxplot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re made up of several regular boxplot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y are drawn up on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ommon sca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so they can be easily compared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arallel boxplots are used to display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ategorical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numerical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variable. The categorical variable is NOT limited to 2 categorie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rawing boxplo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When drawing boxplots, you need to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show and label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Heading(s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Scal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Minimum and maximum valu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Q1, median, Q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Outliers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(Answers in the textbook will sometimes not show outliers. However,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you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 must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 show them.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mmenting and compar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you are asked to comment on the distributions or compare the distributions you need to talk about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kew (if any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Range or sprea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2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Questions  for you: Ex 2C, Q. 3 to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3:35:55Z</dcterms:created>
  <dc:creator>08843474</dc:creator>
  <dc:description/>
  <dc:language>en-US</dc:language>
  <cp:lastModifiedBy>08843474</cp:lastModifiedBy>
  <dcterms:modified xsi:type="dcterms:W3CDTF">2011-02-12T06:16:25Z</dcterms:modified>
  <cp:revision>8</cp:revision>
  <dc:subject/>
  <dc:title>Bivariate Data</dc:title>
</cp:coreProperties>
</file>